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8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E4C-BC47-4248-BE24-542F327F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8E35-5A2E-4385-8713-22A3A3D9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3AAAC-C052-4F27-9828-823D3BA1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A2A6F-47B6-475E-ABF3-12EC32C7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FEEB2-FE4F-4A39-9AC0-6A638234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11245-1544-471D-A7B1-24AA990E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79790-96A7-4AC2-8828-B6866FBD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E1194-53FB-4AD1-9C63-724564EC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78890-BB9F-4C0C-8148-27AB6916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436A9-2CFB-4610-9F50-FEDF5BC7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5EDA3-4FB5-4564-A860-2C0982AC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3D8CB-524D-4D07-B7FC-66251BBA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56F-1970-49E9-91D1-63C7FE0C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393E1-DAF0-4F0A-BB94-2D73EEFE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70847-CB02-4846-A559-E3DA56D6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A1297-3F8F-4C5A-A58F-3987B3AE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65528-44A8-41B9-8F02-7CD00D47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DCBCD-2867-4830-A1CC-46733D0E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5C2F2-5EEF-447F-969B-947BC149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D75BA-8BFB-4366-AEEA-156DDE53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0321E-D7BC-40D5-A7EB-A43898C9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AFD93-C036-464A-BDE3-3C65A646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6DEE4-AD47-49E5-A9D0-CE113EDC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66F1-9E6C-45AC-A40F-2FBB4439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338A3-8534-4DEA-8B99-3543DD87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6010A7-D9E7-4A56-BE31-F3EA25F7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47150C-10AE-4A86-B723-16F5DC97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00B3C8-3C92-4296-82E8-26B6A3FF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ABE31A-042F-4C26-851A-1B293B4F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2E7AD3-F11A-40AD-A8A0-60121547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18C277-E617-4B5E-BD7F-5ED67B6A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8FBE01-A66F-4A27-BA5F-2301F639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56E0BC-5D75-4DF9-B6C4-00B3BEE7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BD4AE7-9AC3-49AA-AABE-F8C7071F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123D-D698-4917-A002-F4858C67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514A12-1B4F-4626-A6F2-B65593C0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957636-5B7A-46EE-A3BD-6425BA51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6B1CC2-3880-474F-BDD0-9F6D8DDB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14D1D-1F25-42F4-B8BB-14D2E3F9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5CBC5-33E8-4065-9DE2-C4C9A27A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45B8D-C50B-425C-A0A0-D1ACFB57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77FD4-F1F0-4CCA-89BE-D0124BEC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88504-E8FB-4868-BDA8-4231D177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90E89-1865-453F-9850-67C7D1A9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978E7-0EEB-4E24-8AA5-489FC9D9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89CB-9512-4A68-B3D0-0FAD0876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21426-8BDB-4705-BAC2-D6F248F2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A7621-6225-4796-8C0E-C6D5D65D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EB73F-8F31-4274-8474-BEDE6D0F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2EDF0-A8EA-416B-A249-8CA69C33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612CD-BB78-4DD7-B9AC-56A7070D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C8FE-80C2-43E3-BF02-5114C73C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24CD-EFD2-421C-AD32-DF4E880F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F0FA-D44D-4008-A3C2-AD9F61E3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58A7-496B-4A81-B1C0-2BE09C01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3B4A-878F-4DA5-A9CD-03D21A98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E72-44A0-45A6-ADF1-6C364C68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2F78-4213-4882-A3C4-F4B3A6B5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0CE6-C2A4-44E4-931E-0A5BAEDB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4C62-0144-4DDE-AED3-265F3348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CC90-F42F-4749-A8A3-275060D0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8265-D681-46D9-8C6B-98E9BA4D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6554D-1FDE-43C6-87D2-CD9B5019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B02AC-6767-4250-830E-AFBEBE68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0C880-B679-44A3-AB48-C3EB083D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9BFAF-501D-4DB3-A136-C67FD507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84615-9DBC-43C0-85BC-78AD1418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B82D-93F3-4C43-AAB1-85546657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3EA89-889B-4714-B482-EA06BB56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DC80F-F4C0-48BB-8009-29AC0738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E058A-DB2C-4A8D-9621-5C5C2B23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937B2-9050-444B-A83D-587CDDAA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134D0-862B-4CE4-A015-6590E79F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63D90-521F-450E-B6EF-D06CDC41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95F9-6322-476C-8501-6BD61BFB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979280-317C-402D-BD58-67DB498C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C99751-E203-418F-B0B0-C05037A5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C91D7B-EAD4-4F1B-95AD-33DD756B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8298-BA34-4B38-BA8B-45FA8239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246C59-FD5A-4C38-98F9-EEA501D5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DE6173-963D-46E6-B30B-E559C2D0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A0A242-BF84-4E2D-B2C2-4AADCEE1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00438A-6190-4A62-8B0D-84E67B32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637389-9B39-4138-9D3A-20B8758A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1F4F22-7C5D-4197-980D-5230D95A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38ECDB-3B06-48E0-AD6A-D32FE23F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414D28-0AB2-40C4-AF18-8D07C3B8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3CE60E-4DAF-412A-ABB9-13754969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BE0E3-26A1-4AA4-8774-1AD66F84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074-6D9A-4716-BCE6-98163D63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CCDF6-A3B1-4A82-B45D-15938C03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AC272-1A22-4F83-BA09-907612ED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B6604-9488-4B2F-8F31-E30888A6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61EF3-442A-4D61-8C74-90EEC38C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7D5CD-D7DA-4072-8331-47854CEF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4AD5B-634E-456F-86A3-157ACB43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37BDF-8C13-49B7-AAA8-22CC6FCE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0E5D0-9BA8-4595-8384-7D1FE063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4DE78-90AE-4700-A868-E1E6E2B6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B751A-4342-44BC-BAD5-00CCD657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367-3D1D-4ABA-A3B4-2EEBFBE4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D909B-6E5D-4394-9D44-93C151F7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9BE72-1F1D-4D7B-90ED-B9FC232E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FFD2B-5834-48CE-8349-8EBFFE9C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99C9C-CE50-4005-A052-379C2728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50A89-97D9-45C9-89F2-94E22BF2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8E402-DD31-4126-8071-B68C62BB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AB991-1FE5-4796-8D06-97D0B14B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DB5F2-FA56-4E93-B91B-9032F2BB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0EAF2-1846-408C-98AA-F9CD0A88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89F05-CEFC-4F40-8B83-5CD9C2F1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A70C-AD60-432A-9AA5-9B3153E4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536C5-07D7-4F2A-A5E8-F333A221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F9393-27E2-4846-9AAA-23496A20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A47FD-EC1E-4E3D-9051-2881BDB7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A5C6F-B73B-44C9-AC20-B3D7C567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BE179-3AF0-4B37-85B7-8ABF247D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0054B-98ED-4B42-9B52-9A07C30B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F80BE-95C4-4CB6-B308-460E2E7E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485AE-0C61-4808-9378-02420C60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0B22B-A7EE-4FBA-B84C-4316499E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6C7A4-75E8-4A3E-812F-6CECAB86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1228-6472-4AEB-91B8-DDAFADB7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04437-C7A9-49E5-806C-6EB66C1E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C428E-83DE-4F75-AEF4-11A0145F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4113D-BFA6-4E40-9C61-4993CF34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4EF87-E6DC-4B23-874E-09123B41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C771E-CF5C-4B94-9EC1-A9CBBB5C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A19B71-87F4-4DFD-A758-41204490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0E8955-5D74-4D62-9D0E-84AC3A29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37AAF4-1D22-4C37-B2FE-81DED995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0031F1-8209-4F36-BAB0-4970562E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8341B0-D3A7-4AB1-8DE4-52C4AFDB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0C6-349D-4239-9EAF-666BEED2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503E53-A9BE-4370-8651-9630E916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20B165-A860-4839-9704-DC04BD7B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CC7C97-A027-43CB-9DEC-6693D352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5F6530-8CFC-4FA3-93DF-2C6CB59A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6845B8-8EBF-4B26-98C6-607B2694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6FA2FB-7CD2-48D9-909E-4A9B46BD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45CD90-5351-4E8E-8479-79BA2BF9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E212B-8A73-49DC-B5A5-AFFAFA95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4D320-3A89-49C2-8C42-8E680BD1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843C8-65D5-4991-BC9F-90646D78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620E-ABB5-44C6-B1BF-81EB483EE66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1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042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E33B-B6F4-483B-BD4F-27CF71A824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99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1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303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30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0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12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B317-C773-4F38-A631-850DE26F4A9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9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360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361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4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375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6DD4-C316-4451-B122-D224A61486D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AF46-CF47-4744-883B-3DE2696AA3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9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0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0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0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1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1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1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2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2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2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4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4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4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4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5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5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5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6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6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6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7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7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7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8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8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8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9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9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9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9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0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FAE2-CF48-40F0-A860-F6BFC1E1CA6B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268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E563-71DF-4D9F-AF46-54DA825A82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5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29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0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31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6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38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A3A5-BC7F-462E-BF14-FF62BBD72B3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86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87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0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01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B2B5-FC45-4B52-AD9E-AE48847A5BC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78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D193-9660-478F-88EF-F4B4EEB919B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86DC-7B8E-4785-AF97-28F7AA3A1E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868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869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87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87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87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87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87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88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88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88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89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89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89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89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0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0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0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1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1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1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2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2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92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92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93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93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93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94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94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94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95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95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95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96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96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96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97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97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7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97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97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5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986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6205-5D1F-4FEB-AFA2-1DB41680BC2A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 Black"/>
              </a:rPr>
              <a:t>РАЗГОВОР О ПРАВИЛЬНОМ   ПИТАНИИ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990720" y="5143320"/>
            <a:ext cx="67816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Автор: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ислова Светлана Викторовна-учитель начальных  классов, первая квалификационная категория 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dfdef6"/>
                </a:solidFill>
                <a:uFillTx/>
                <a:latin typeface="Arial"/>
              </a:rPr>
              <a:t>Что такое белки?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снова жизни. Они обеспечивают рост организма, формирование всех органов и систем. Они необходимы в любом возрасте, но особенно в детском и юношеском, когда организм развиваетс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5" name="Picture 4" descr="00011973"/>
          <p:cNvPicPr/>
          <p:nvPr/>
        </p:nvPicPr>
        <p:blipFill>
          <a:blip r:embed="rId1"/>
          <a:stretch/>
        </p:blipFill>
        <p:spPr>
          <a:xfrm>
            <a:off x="0" y="115920"/>
            <a:ext cx="8748720" cy="7345440"/>
          </a:xfrm>
          <a:prstGeom prst="rect">
            <a:avLst/>
          </a:prstGeom>
          <a:ln w="0">
            <a:noFill/>
          </a:ln>
        </p:spPr>
      </p:pic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Tahoma"/>
              </a:rPr>
              <a:t>Что такое жиры?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то резервы энергии нашего организма. Они находятся во всех тканях или накапливаются в некоторых органах тела(почках, сердце и др.)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Жиры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– сливочное и растительное масл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9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Что такое углеводы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Главный источник энергии для организма. Потребность в них в 4-5 раз больше, чем в белках и жирах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то хлеб, крупы, картофель, овощи, зелен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Picture 5" descr="Моя малина 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742080"/>
          </a:xfrm>
          <a:prstGeom prst="rect">
            <a:avLst/>
          </a:prstGeom>
          <a:ln w="0">
            <a:noFill/>
          </a:ln>
        </p:spPr>
      </p:pic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3e3ff"/>
                </a:solidFill>
                <a:uFillTx/>
                <a:latin typeface="Arial"/>
              </a:rPr>
              <a:t>Что такое витамины? Где содержится больше всего витаминов?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фруктах и   овощах. Недостаток витаминов всегда дает о себе знать. Многие из нас испытывают воздействие зимних и весенних гиповитаминозов — состояний, вызванных недостатком витаминов. Это — быстрая утомляемость, раздражительность, плохой аппетит, трещинки в углах рта, сухость и шелушение кожи. Все это — следствие серьезных изменений в обмене веществ, то есть внешнее проявление предболезни, которая может перейти в болез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5" name="Picture 4" descr="недо же 2"/>
          <p:cNvPicPr/>
          <p:nvPr/>
        </p:nvPicPr>
        <p:blipFill>
          <a:blip r:embed="rId1"/>
          <a:stretch/>
        </p:blipFill>
        <p:spPr>
          <a:xfrm>
            <a:off x="0" y="237960"/>
            <a:ext cx="9144000" cy="6382080"/>
          </a:xfrm>
          <a:prstGeom prst="rect">
            <a:avLst/>
          </a:prstGeom>
          <a:ln w="0">
            <a:noFill/>
          </a:ln>
        </p:spPr>
      </p:pic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8f8f8"/>
                </a:solidFill>
                <a:uFillTx/>
                <a:latin typeface="Arial Black"/>
              </a:rPr>
              <a:t>Чем полезна рыба и морепродукты ?</a:t>
            </a: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Это важнейший источник питательных веществ высокой биологической ценности. Белки рыбы лучше перевариваются и усваиваются организм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ыба содержит фосфор, кальций, необходимые для роста и крепости зубов и костей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 «Поешь рыбки – будут ноги       прытки»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В ней много витаминов А и Д, микроэлементов, й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8" name="Picture 4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6875640" cy="6742080"/>
          </a:xfrm>
          <a:prstGeom prst="rect">
            <a:avLst/>
          </a:prstGeom>
          <a:ln w="0">
            <a:noFill/>
          </a:ln>
        </p:spPr>
      </p:pic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Какие молочные продукты вы знаете и чем они полезны?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локо, кефир, ряженка, ацидофилин, простокваша, йогурт, сметана, творог, творожный сырок, глазированный сырок, сы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 состав молока входят белок, жир. Молочный сахар, вода, кальций, фосфор, железо, витамины А, группыВ, РР, С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ие продукты растительного происхождения, а какие – животного происхожд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457200" y="1904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укты растительного происхожд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457200" y="40384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укты животного происхожд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ле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лба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лок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ха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йц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у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блок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ини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ек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гуре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Какие правила необходимо выполнять во время еды?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лавное – не переедай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шьте в одно и то же время простую, свежеприготовленную пищу, которая легко усваивается и соответствует потребностям орг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щательно пережевывайте пищу, не спешите глот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йте фрукты и овощи перед е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ред приемом пищи мысленно поблагодарите всех, кто принял участие в создании продуктов, из которых приготовлена пища. И конечно, тех, кто приготовил вам е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дание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готовьте традиционные русские блюда (выберите продукты, необходимые для приготовления блюда)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Борщ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да, молоко, ча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ртофель, капуста, свекла, огурец, помидор, лук, реди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ь, сахар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йонез, смет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Гречневая каш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да, молок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кароны, рис, пшено, греч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ь, сахар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ло растительное, масло сливочно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берите слова для характеристики здорового человека: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асивы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овки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атны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еп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тулы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ледны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рой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уклюж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льны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мяны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лст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тянут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3" name="Picture 6" descr="Изображение 435"/>
          <p:cNvPicPr/>
          <p:nvPr/>
        </p:nvPicPr>
        <p:blipFill>
          <a:blip r:embed="rId1"/>
          <a:stretch/>
        </p:blipFill>
        <p:spPr>
          <a:xfrm>
            <a:off x="0" y="2527200"/>
            <a:ext cx="3927600" cy="2946600"/>
          </a:xfrm>
          <a:prstGeom prst="rect">
            <a:avLst/>
          </a:prstGeom>
          <a:ln w="0">
            <a:noFill/>
          </a:ln>
        </p:spPr>
      </p:pic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      </a:t>
            </a: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Праздник молока  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7" name="Picture 12" descr="Изображение 439"/>
          <p:cNvPicPr/>
          <p:nvPr/>
        </p:nvPicPr>
        <p:blipFill>
          <a:blip r:embed="rId2"/>
          <a:stretch/>
        </p:blipFill>
        <p:spPr>
          <a:xfrm>
            <a:off x="5216400" y="2527200"/>
            <a:ext cx="3927600" cy="2946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.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кие группы пищевых продуктов должны быть включены    в  рацион школьника?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ясо и мясопродук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ыба и рыбопродук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олоко и молочные продук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Яйц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ищевые жир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лоды и овощ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Хлеб и хлебобулочные, макаронные изделия. Крупы,  бобов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ахар и кондитерские изделия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вощи- фрукты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.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Впиши в пустые клетки по горизонтали – фрукты, по вертикали – овощ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5" name="Рисунок 1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258920" y="1905120"/>
            <a:ext cx="7345440" cy="4952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згадай кроссворды:    </a:t>
            </a:r>
            <a:br>
              <a:rPr sz="2000"/>
            </a:b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«В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каких магазинах можно купить эти продукты? 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7" name="Рисунок 1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187280" y="1773360"/>
            <a:ext cx="6769440" cy="5084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равила, которые обеспечивают хорошее состояние здоровья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ильное пит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блюдение режима дн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каливание (физические упражнения, спорт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ильная организация труда и отдых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блюдение правил гигие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брое сердце, добрые дела, поступк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ahoma"/>
              </a:rPr>
              <a:t>АРИФМАЦИ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хочу быть здоровы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могу быть здоровы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буду здоровы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ПАСИБО!  БУДЬТЕ ЗДОРОВЫ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66"/>
                </a:solidFill>
                <a:latin typeface="Tahoma"/>
              </a:rPr>
              <a:t>«Питание школьника». Госторгиздат 1990 год. Авторы: С. Р. Грознов и Л. И. Сидоро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66"/>
                </a:solidFill>
                <a:latin typeface="Tahoma"/>
              </a:rPr>
              <a:t>«Книга о вкусной и здоровой пище». Издательство «Колос» 1993 год. Редактор-составитель: Л. И. Воробье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66"/>
                </a:solidFill>
                <a:latin typeface="Tahoma"/>
              </a:rPr>
              <a:t>«Здоровое питание». Издательство «Панацея» 2005 год. Автор: Иванов А. 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66"/>
                </a:solidFill>
                <a:latin typeface="Tahoma"/>
              </a:rPr>
              <a:t>«Основы здорового образа жизни». Издательство «Панацея»    2003 год. Авторы: Вельский А. А, Кротков А. Р, Лютина М. Ф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http://kistv.ru/load/frukty_i_ovoshhi/151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http://desktop.kazansoft.ru/preview/364-4.html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http://www.desktopwallpapers.ru/food/mandarini/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http://www.desktopwallpapers.ru/food/yabloki/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http://www.desktopwallpapers.ru/food/malina/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http://www.desktopwallpapers.ru/food/apelsini/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http://www.desktopwallpapers.ru/food/limoni/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http://www.desktopwallpapers.ru/food/kivi/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http://www.desktopwallpapers.ru/food/grushi/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Tahoma"/>
              </a:rPr>
              <a:t>http://www.desktopwallpapers.ru/food/banani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/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Tahoma"/>
              </a:rPr>
              <a:t>http://pedsovet.su/load/211-1-0-530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4" name="WordArt 4"/>
          <p:cNvSpPr txBox="1"/>
          <p:nvPr/>
        </p:nvSpPr>
        <p:spPr>
          <a:xfrm>
            <a:off x="457200" y="291960"/>
            <a:ext cx="699120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Monotype Corsiva"/>
              </a:rPr>
              <a:t>Материалы для презентации взяты со страниц интернета.</a:t>
            </a:r>
            <a:endParaRPr b="0" i="1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Monotype Corsiva"/>
              </a:rPr>
              <a:t>Большое спасибо всем авторам.</a:t>
            </a:r>
            <a:endParaRPr b="0" i="1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486a"/>
                </a:solidFill>
                <a:latin typeface="Arial Black"/>
              </a:rPr>
              <a:t>- “Здоровье – это единственная драгоценность”                                                                                       Монтень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559" name="Picture 3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огда нет здоровья, молчит мудрость, не может расцвести искусство, не играют силы, бесполезно богатство и бессилен разум”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Геродо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“Заботу о пище и уходе за телом нужно отнести к области здоровья и поддержания сил, а не к области наслаждения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ицер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1. Здоровый образ жизни – это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Соблюдение режима дн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Соблюдение режима питания, правильное пит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Закали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Физический тру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) Соблюдение правил гигие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) Правила поведения за сто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7) Скажем «Нет!» вредным привычка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8) Доброе отношение к людям, к окружающей нас природе, животн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9) Правильная организация отдыха и тру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820000" cy="6858000"/>
          </a:xfrm>
          <a:prstGeom prst="rect">
            <a:avLst/>
          </a:prstGeom>
          <a:ln w="0">
            <a:noFill/>
          </a:ln>
        </p:spPr>
      </p:pic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Что такое питание?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Arial Black"/>
              </a:rPr>
              <a:t>Это</a:t>
            </a:r>
            <a:r>
              <a:rPr b="1" i="1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ffcc00"/>
                </a:solidFill>
                <a:latin typeface="Arial Black"/>
              </a:rPr>
              <a:t>процесс усвоения организмом питательных веществ, необходимых для поддержания жизни, здоровья и работоспособност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Tahoma"/>
              </a:rPr>
              <a:t>Какие продукты называются полезными</a:t>
            </a:r>
            <a:r>
              <a:rPr b="0" lang="ru-RU" sz="4000" spc="-1" strike="noStrike" u="sng">
                <a:solidFill>
                  <a:srgbClr val="a50021"/>
                </a:solidFill>
                <a:uFillTx/>
                <a:latin typeface="Tahoma"/>
              </a:rPr>
              <a:t>?</a:t>
            </a:r>
            <a:r>
              <a:rPr b="0" lang="ru-RU" sz="40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одукты, в которых есть вещества, без которых человек не может жить и развиваться.  Они необходимы  человеку каждый ден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1cb75"/>
                </a:solidFill>
                <a:uFillTx/>
                <a:latin typeface="Tahoma"/>
              </a:rPr>
              <a:t>Что поступает с пищей в организм человека?</a:t>
            </a:r>
            <a:r>
              <a:rPr b="0" lang="ru-RU" sz="4000" spc="-1" strike="noStrike">
                <a:solidFill>
                  <a:srgbClr val="c1cb75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ода, белки, жиры, углеводы, витамины и минеральные сол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5:57:18Z</dcterms:created>
  <dc:creator>Людочка</dc:creator>
  <dc:description/>
  <dc:language>en-US</dc:language>
  <cp:lastModifiedBy>User</cp:lastModifiedBy>
  <dcterms:modified xsi:type="dcterms:W3CDTF">2015-02-05T16:13:37Z</dcterms:modified>
  <cp:revision>11</cp:revision>
  <dc:subject/>
  <dc:title>ЗДОРОВОЕ ПИТАНИЕ</dc:title>
</cp:coreProperties>
</file>